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tif" ContentType="image/tif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F30FA-95DB-4712-98DF-3EA5D128E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5FCE9-FCEC-4127-A3EE-BB9ACD99F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7BC5C-D1E0-4961-B78C-B29FE6AD18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6C16B-1711-44C9-96E5-0604C81908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67301-9DC5-458C-8AC1-1B38361D5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8F81-8CCB-4E8B-8322-46F1F15EB5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060E2-CAD8-42C5-8CC4-D63DED14E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CEC4E-240E-4E86-B10F-0586A32131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82396-4DD2-492F-91E6-3E9D1EB24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7093F-FA6A-47F2-B6F2-13EFB0C49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23564-D220-4C58-BFC2-F0AB13E03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654F6-3466-4A5D-953C-84F9500AA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4F811-1520-498A-B167-D3C4DF5C0A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t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9"/>
          <p:cNvSpPr/>
          <p:nvPr/>
        </p:nvSpPr>
        <p:spPr>
          <a:xfrm>
            <a:off x="4654440" y="0"/>
            <a:ext cx="7537680" cy="6858000"/>
          </a:xfrm>
          <a:prstGeom prst="rect">
            <a:avLst/>
          </a:prstGeom>
          <a:solidFill>
            <a:srgbClr val="4d2d5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5189400" y="1306080"/>
            <a:ext cx="5478480" cy="2662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Calibri Light"/>
              </a:rPr>
              <a:t>Apache Sling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3" name="Picture 4" descr=""/>
          <p:cNvPicPr/>
          <p:nvPr/>
        </p:nvPicPr>
        <p:blipFill>
          <a:blip r:embed="rId1"/>
          <a:stretch/>
        </p:blipFill>
        <p:spPr>
          <a:xfrm>
            <a:off x="1481040" y="3083040"/>
            <a:ext cx="1649520" cy="66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22T15:05:45Z</dcterms:created>
  <dc:creator>Microsoft Office User</dc:creator>
  <dc:description/>
  <dc:language>en-US</dc:language>
  <cp:lastModifiedBy>Microsoft Office User</cp:lastModifiedBy>
  <dcterms:modified xsi:type="dcterms:W3CDTF">2019-05-22T15:06:37Z</dcterms:modified>
  <cp:revision>1</cp:revision>
  <dc:subject/>
  <dc:title>Apache Sling</dc:title>
</cp:coreProperties>
</file>