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006188"/>
        <c:axId val="92868003"/>
      </c:barChart>
      <c:catAx>
        <c:axId val="740061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68003"/>
        <c:crosses val="autoZero"/>
        <c:auto val="1"/>
        <c:lblAlgn val="ctr"/>
        <c:lblOffset val="100"/>
        <c:noMultiLvlLbl val="0"/>
      </c:catAx>
      <c:valAx>
        <c:axId val="928680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061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E19F-8A57-4BAC-9E8F-DC66DB844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ABE2-E8B2-4BE4-A593-E703E157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EA8F-127C-4E78-ADEE-F5B1DFBF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46F5-F575-421B-AE7A-9F819986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148A-9C7D-496A-9940-B2147D55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741C-86D5-44B4-9445-2B63158E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C763-52DB-480D-BBB8-D707715D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8B71-0EF3-4D9B-8717-EAC38442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BA4B-1355-4B4D-BC62-4E4C00FB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5A7F-B15F-43D1-9AA7-59DC5B9C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061C-4C2F-4ABB-80CE-40242ED6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7899-A752-48C9-AB4E-8FB9A198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97371-022C-4DE5-B487-B1C8B1857A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