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9217-D4D2-47D8-BC81-FD63CBC35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5B7C-3DB2-4211-B440-D8923FD48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D9FF-DB3D-4CB2-85C5-430410D39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4FA3-F0DC-4B94-ABE0-4ECF45083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DB356-24A2-4FFC-9E78-24B0C1336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3F81B-924C-4A6E-8812-BF672C30E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535F5-BEE1-4A4A-827E-75ECFE71C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BD465-4A96-4F3C-AC01-89A5943D0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876BE-8AE9-4092-9DEA-EA00FC7CA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F86C2-B08E-4B9F-91B7-226BBDA86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387AC-AE33-47B6-812C-E0C2335A7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4B0F-3AF8-4DE0-9F01-2B3C37830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5EE13-41B8-4345-BDA5-DF6884BA0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18641-9ED3-4F47-A43B-3F7563168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3FBFD-1C8F-4BD2-A1FE-663CD4F4C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F1B22-8F6F-4CB9-B1FE-D023D6B45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BB558-5B36-479A-95E1-337D348CA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4C40-2A23-4790-98C1-63C2BE9AE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3D4A-3746-4D6D-9073-A93CFB799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3C87-43AA-4EFD-A0A5-441E34DB4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9B63-4A19-4444-92FF-CD5964D0F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4E3F-174A-4007-A812-95BBC65F0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28CF-CB8F-4EC2-A09B-D0D773AE0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5AA4-2A12-4747-B914-51EC7175F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FF656-4EE4-44F2-BA2E-55AB0739933D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9A871-C399-4F9A-A890-59054E60D4DB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5640" y="12189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Parte V</a:t>
            </a:r>
            <a:br>
              <a:rPr sz="4400"/>
            </a:br>
            <a:br>
              <a:rPr sz="4400"/>
            </a:b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Recursos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276720" y="3284640"/>
            <a:ext cx="5627520" cy="357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Recursos GNU vs Recursos $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Sites en 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Document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Formas de perder el tiemp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24000" y="3716280"/>
            <a:ext cx="1760400" cy="28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Recursos I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Recursos $ vs Recursos GN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Listas de corre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Soporte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Actualizaciones productos de seguridad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Manuales “tecnicos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Documentacion “avanzada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Knowledge bas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Recursos II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Algunas URL’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www.cert.org (genera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www.securiteam.com (bugtraq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www.net-security.org (genera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www.ideahamster.com (politica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neworder.box.sk (genera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Recursos III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Document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RFC 2196 (IETF), general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BS 7799 (UK Standard), teorico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Open Source Security Testing Methodology Manual (OSSTMM) (ideahamster.com), auditori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Breaking into computer Networks from the Internet (sensepost.com), auditoria/hacking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Recursos IV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Formas de perder el tiemp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Cursillos de hacking comerciale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Herramientas “click and go”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Foros públicos de “hackers”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Como ser un hacker en 21 dias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Cursos comerciales de productos concreto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436640"/>
            <a:ext cx="3672000" cy="265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600" spc="-1" strike="noStrike">
                <a:solidFill>
                  <a:srgbClr val="ffffcc"/>
                </a:solidFill>
                <a:latin typeface="Arial Narrow"/>
              </a:rPr>
              <a:t>FiN</a:t>
            </a:r>
            <a:br>
              <a:rPr sz="9600"/>
            </a:br>
            <a:r>
              <a:rPr b="1" lang="es-ES" sz="1800" spc="-1" strike="noStrike">
                <a:solidFill>
                  <a:srgbClr val="ffffcc"/>
                </a:solidFill>
                <a:latin typeface="Arial Narrow"/>
              </a:rPr>
              <a:t>Version 1.0 Marzo/2002</a:t>
            </a:r>
            <a:endParaRPr b="1" lang="en-US" sz="1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1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3492360" y="1484280"/>
          <a:ext cx="4897440" cy="463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360" y="1484280"/>
                    <a:ext cx="4897440" cy="463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7T18:55:43Z</dcterms:created>
  <dc:creator>slerena</dc:creator>
  <dc:description/>
  <dc:language>en-US</dc:language>
  <cp:lastModifiedBy>TBBBG</cp:lastModifiedBy>
  <dcterms:modified xsi:type="dcterms:W3CDTF">2002-03-16T03:32:24Z</dcterms:modified>
  <cp:revision>34</cp:revision>
  <dc:subject/>
  <dc:title>Políticas de Seguridad en entornos GNU</dc:title>
</cp:coreProperties>
</file>