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3A00-773C-416B-9B85-8090860F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B5B6-4DA3-4E6B-BF97-76CA98E7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ABA3-B827-42F1-80A1-24533CC0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EA57-4681-4796-942F-7275C166B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AA5C-AF5D-4E32-BB4E-738623424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B0FD-E334-4368-B7A3-C49A5FAE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3FA5-16AB-42A9-B4E2-BA84E99E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238C-318C-4663-9604-8657A91C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E73F-2378-430E-821B-CFFF43FF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318B-A9D5-4FF2-95B7-1DED37C3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D40E-4F2B-4808-933E-9F212E6D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D149-2667-49EB-B1F9-856A163C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44AA-A750-4BC4-B7F1-CE1BCB62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04E5-790E-4D67-AB0C-EFC89ECF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0180-432B-4C78-A58A-4986CAF3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2ED2-36F4-4A2F-873C-18DC3FA8B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143B-855C-4997-8B1F-0C8AC6FDA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A251-5A0D-479A-9C70-E0844E22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9575-2283-4341-BE36-58EB49A3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EC01-17A1-404F-97B9-7C828D68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BE0D-9B68-437F-836F-8F896CB1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794B-E554-46E9-A5F4-4D402DC6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24AC-41C6-4B14-9AE9-6AA2460D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231C-6EF0-4176-B2B8-A5B5096C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89EE-2713-4418-ACD9-F9393B89E7B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F300-1370-4127-AF8D-CF5724F64C2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arte IV - Tema D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uditoría en GNU/Linux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86200" y="2895480"/>
            <a:ext cx="329400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Otras herramientas de auditoria.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19520" y="1980720"/>
            <a:ext cx="6000480" cy="45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canner de puer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NMA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FSC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canner de CGI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GISc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Whisk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Riv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Datapool (Do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AINT, Messala, RvScan, Sara, landguard  (A.V.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0920" y="4221000"/>
            <a:ext cx="196200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uditoría de Seguridad con GNU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troducción a una audito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ESS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tras herrami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uditoría de segur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ip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aja neg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Vulnerabil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fund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uditoria de DoS y otras incidenci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aja blan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análisis y requisi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gur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os: Calidad, confidencialidad, etc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Otras: Fisicas, social, basura, et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uditoría de seguridad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udit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Hacking etico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Método vs Conocimi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tr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lick &amp; Destro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lick, cut and pa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lick &amp; Fo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Qué 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uc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Demoni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onsol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Plugin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lit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72120" y="1476360"/>
            <a:ext cx="39718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canning/N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867280" y="2565360"/>
            <a:ext cx="29718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lic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00720" y="2625840"/>
            <a:ext cx="464328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71640" y="177336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nd go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708360" y="2421000"/>
            <a:ext cx="54356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55:43Z</dcterms:created>
  <dc:creator>slerena</dc:creator>
  <dc:description/>
  <dc:language>en-US</dc:language>
  <cp:lastModifiedBy>TBBBG</cp:lastModifiedBy>
  <dcterms:modified xsi:type="dcterms:W3CDTF">2002-03-16T03:32:26Z</dcterms:modified>
  <cp:revision>36</cp:revision>
  <dc:subject/>
  <dc:title>Políticas de Seguridad en entornos GNU</dc:title>
</cp:coreProperties>
</file>