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197-10FC-4FBD-93B0-1DE34F4A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495-AE14-41BE-A416-7FDFE5BE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094-CE0C-4333-AEA9-8949632E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84E-825C-4F03-80B6-9711DBA7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C1C-A725-409B-9C26-A424C083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E51-31F2-4665-B4A4-7B37ED37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9B8-1C48-4F2F-AD96-C8A0C7E9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DD0B-D4BC-4A0B-82A0-CE48BAE4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C50-E824-47AE-BC2C-28472763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713-93AE-4631-B632-5E82F788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D01-1986-4D37-ADE2-CFE1036A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ECE-4580-47A5-86DC-3CA87418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93F7-20EB-4B72-BCCA-4F9F167F1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2560" y="17604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3960" y="2286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3800" y="8398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20048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9720" y="22114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 Firm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0" y="152568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5360" y="13190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1240" y="10144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3190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6480" y="185256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1960" y="17002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1960" y="208116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7858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2560" y="14716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21574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1640" y="739800"/>
            <a:ext cx="1308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6600" y="739800"/>
            <a:ext cx="149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03760" y="1425600"/>
            <a:ext cx="122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g.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0520" y="211140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c A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0480" y="211140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law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14256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MF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3640" y="739800"/>
            <a:ext cx="1166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ignal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76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8000" y="289548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from phon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47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65760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638680" y="1066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8762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760" y="9144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30120" y="533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23:18:40Z</dcterms:created>
  <dc:creator>John Kostogiannis</dc:creator>
  <dc:description/>
  <dc:language>en-US</dc:language>
  <cp:lastModifiedBy>John Kostogiannis</cp:lastModifiedBy>
  <dcterms:modified xsi:type="dcterms:W3CDTF">1999-09-12T11:03:12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