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43C3A18-C777-46CA-A323-AB4F21FD410E}"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DA3B925-F187-4FAE-8482-91D3B8B56C9F}"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ED2D984-6509-4E2F-B3A9-7D713BF3DE0C}"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1BD2A10B-DC49-4285-9B6B-D5850FF6FACF}"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E375853-AC63-42ED-8EF7-C2C52412A6F1}"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D552BFC2-2196-4C31-A9EA-C4FCDF0DEF73}"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F431B6C-11F5-4857-8903-CF616D597B98}"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5DE0FE-B0E4-45AE-8606-0722DCE4F6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D46BE5-2048-43BD-B0CB-18641AA303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303EBA-C5C3-4AB5-8061-FC5AECAE0F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9201B8-3235-4C10-8DCD-68CA2F4387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7297B6-18F8-4BD5-9AA2-83E37E02DB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2A6141-5968-48A8-9D80-09C7D3E50F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993E1A-88C9-4362-84F2-D95CEAAE0E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6C4599-456A-4CCF-87C0-19435EE9FB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BC327E-0725-41C6-B2E7-F116F9D52E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429C44-FF10-4040-835F-5971FF369C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E8DCAF-F503-48D8-BB9F-72844F181B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E4E6A4-46AB-45A1-8284-A7BE851DA7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AF489A-0C15-4899-9FD4-5B2FAD7ED8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484C22-E6DD-4C39-8946-6754C32FE4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F0C80C-46E4-4572-98C1-B75EBFE98F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ADF28A-DC71-400B-853E-49382CD18A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549583-9262-4E79-9224-E267D89C09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923B94-9894-48C5-88BB-A48A20FAA2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D14119-9C10-4A3F-9EFB-7436D428EA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DEF20A-4748-4BBB-9943-71171CD8B1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416BFE-ABB0-4C5D-8F75-97B6201586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E792C6-0B59-4F89-9D5F-D22A25B757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A162D4-C2C1-4938-9C85-4A9B380A2C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60AEFB-48C0-4BAE-9546-20DD751F89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9914C-A69D-4144-804E-9811EA8D61B4}"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5B2AE-0E66-4CCF-9E79-A0A36A736B3E}"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EB788830-E5F5-46F2-9F36-03C71A187D0F}" type="datetime3">
              <a:rPr b="0" lang="en-US" sz="2000" spc="-1" strike="noStrike">
                <a:solidFill>
                  <a:srgbClr val="ffffcc"/>
                </a:solidFill>
                <a:latin typeface="Tahoma"/>
              </a:rPr>
              <a:t>July 30,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